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jpeg" ContentType="image/jpeg"/>
  <Override PartName="/ppt/media/image11.jpeg" ContentType="image/jpeg"/>
  <Override PartName="/ppt/media/image13.png" ContentType="image/png"/>
  <Override PartName="/ppt/media/image8.png" ContentType="image/png"/>
  <Override PartName="/ppt/media/image14.jpeg" ContentType="image/jpeg"/>
  <Override PartName="/ppt/media/image19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5.jpeg" ContentType="image/jpeg"/>
  <Override PartName="/ppt/media/image6.gif" ContentType="image/gif"/>
  <Override PartName="/ppt/media/image10.jpeg" ContentType="image/jpeg"/>
  <Override PartName="/ppt/media/image18.png" ContentType="image/pn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F475B-C329-411E-9485-57621E81E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902A8-A910-4113-ACA0-E9F0C9923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D38AC-70B7-430F-AE99-C42224A46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3E34E-FD65-46EA-883F-3802EA644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F81A4-F7E6-4165-BB19-6E04AE677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B3009-2333-4671-AC4F-FE933ABFD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C0E2E-7540-47A1-8B00-080DCA09F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1FDC0-ABC1-4BBC-A158-E233CEEEC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19317-83B7-4C84-BBC3-C457C57AB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574CE-E5D7-42AC-B7BF-0CEA3E802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BE49D-7371-4C3F-93B5-5DE578D43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55871-66D2-4B0D-80A2-359D7BD78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BFF8A-DB7E-4A0B-BAD4-C6CD535A4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31384-54FC-4594-A5E3-D527B2C74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3BE88-C886-40A9-B994-14301EDEE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49250-C0D1-48A3-945F-FB2A586AC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1E7D2-9D2D-4D67-9573-B3ED37BDA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724C8-B77D-4842-8DAE-544B6200E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F8093-145E-4098-99FF-13B0B30E3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64885-CDBF-448F-85AD-F5909D42E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5AF7F-F5A0-4220-98D9-B16503A73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025C0-9A1B-4C71-B521-5F5E99310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9345E-2CC3-469B-A64F-4FFD35336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2878B-6B8D-4E64-8E4E-18850FB85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3BB32-33AF-4441-9555-D14C3AE0E779}" type="slidenum">
              <a:rPr b="0" lang="nb-N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07118-5B87-4291-8D68-3612A7073D11}" type="slidenum">
              <a:rPr b="0" lang="nb-N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no.wikipedia.org/wiki/Bilde:Maquina_vapor_Watt_ETSIIM.jpg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f/f0/Steam_engine_in_action.gif" TargetMode="External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000000"/>
                </a:solidFill>
                <a:latin typeface="Arial Unicode MS"/>
              </a:rPr>
              <a:t>DEN INDUSTRIELLE REVOLUSJ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b-NO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000000"/>
                </a:solidFill>
                <a:latin typeface="Arial Unicode MS"/>
              </a:rPr>
              <a:t>FORUTSETNING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Befolkningsvekst på 1700- og 1800-tall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Behov for større matproduksj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Effektivisering av jordbruket førte til større avkastn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Endringene i landbruket  nødvendig for   byvekst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Picture 2" descr="Iron-forge"/>
          <p:cNvPicPr/>
          <p:nvPr/>
        </p:nvPicPr>
        <p:blipFill>
          <a:blip r:embed="rId1"/>
          <a:stretch/>
        </p:blipFill>
        <p:spPr>
          <a:xfrm>
            <a:off x="0" y="-31680"/>
            <a:ext cx="9144000" cy="69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Picture 2" descr="stahlofen"/>
          <p:cNvPicPr/>
          <p:nvPr/>
        </p:nvPicPr>
        <p:blipFill>
          <a:blip r:embed="rId1"/>
          <a:stretch/>
        </p:blipFill>
        <p:spPr>
          <a:xfrm>
            <a:off x="1946160" y="0"/>
            <a:ext cx="5251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000000"/>
                </a:solidFill>
                <a:latin typeface="Arial Unicode MS"/>
              </a:rPr>
              <a:t>KONSEKVENS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Calibri"/>
              </a:rPr>
              <a:t>Overbefolkede by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Calibri"/>
              </a:rPr>
              <a:t>Miljøproblem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Calibri"/>
              </a:rPr>
              <a:t>Dårlige hygieniske forhol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Calibri"/>
              </a:rPr>
              <a:t>Harde og lange arbeidsdager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Calibri"/>
              </a:rPr>
              <a:t>Barnearbeid var vanli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b-NO" sz="2800" spc="-1" strike="noStrike">
                <a:solidFill>
                  <a:srgbClr val="000000"/>
                </a:solidFill>
                <a:latin typeface="Calibri"/>
              </a:rPr>
              <a:t>Arbeidsmarkedet var sterkt kjønnsdel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b-NO" sz="2800" spc="-1" strike="noStrike">
                <a:solidFill>
                  <a:srgbClr val="000000"/>
                </a:solidFill>
                <a:latin typeface="Calibri"/>
              </a:rPr>
              <a:t>Kvinnene tjente omtrent halvparten av det mennene tjent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Calibri"/>
              </a:rPr>
              <a:t>Håndverkere mister sin nær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Bedre levekår for folk fle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Økt levestandar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Klasseforskjell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Økonomisk og materiell kløft mellom de vestlige landene og andre verdensdeler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" name="Picture 2" descr="barn_gruver"/>
          <p:cNvPicPr/>
          <p:nvPr/>
        </p:nvPicPr>
        <p:blipFill>
          <a:blip r:embed="rId1"/>
          <a:stretch/>
        </p:blipFill>
        <p:spPr>
          <a:xfrm>
            <a:off x="0" y="838080"/>
            <a:ext cx="914400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Picture 2" descr="gruve_barn"/>
          <p:cNvPicPr/>
          <p:nvPr/>
        </p:nvPicPr>
        <p:blipFill>
          <a:blip r:embed="rId1"/>
          <a:stretch/>
        </p:blipFill>
        <p:spPr>
          <a:xfrm>
            <a:off x="495360" y="20520"/>
            <a:ext cx="8153280" cy="681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4" descr="arbeit-kinder"/>
          <p:cNvPicPr/>
          <p:nvPr/>
        </p:nvPicPr>
        <p:blipFill>
          <a:blip r:embed="rId1"/>
          <a:stretch/>
        </p:blipFill>
        <p:spPr>
          <a:xfrm>
            <a:off x="1928880" y="0"/>
            <a:ext cx="52862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3" descr="LudditesSmashingLoomLarge"/>
          <p:cNvPicPr/>
          <p:nvPr/>
        </p:nvPicPr>
        <p:blipFill>
          <a:blip r:embed="rId1"/>
          <a:stretch/>
        </p:blipFill>
        <p:spPr>
          <a:xfrm>
            <a:off x="1547640" y="1135080"/>
            <a:ext cx="6120000" cy="5722920"/>
          </a:xfrm>
          <a:prstGeom prst="rect">
            <a:avLst/>
          </a:prstGeom>
          <a:ln w="9360">
            <a:solidFill>
              <a:srgbClr val="003399"/>
            </a:solidFill>
            <a:miter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000" spc="-1" strike="noStrike">
                <a:solidFill>
                  <a:srgbClr val="000000"/>
                </a:solidFill>
                <a:latin typeface="Calibri"/>
              </a:rPr>
              <a:t>MASKINSTORMERE PÅ BEGYNNELSEN AV 1800-TALLE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78920" y="7461000"/>
            <a:ext cx="8541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000000"/>
                </a:solidFill>
                <a:latin typeface="Calibri"/>
              </a:rPr>
              <a:t>REAKSJON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Sosialistiske bevegels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Krav om regulering av arbeidsforh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000000"/>
                </a:solidFill>
                <a:latin typeface="Calibri"/>
              </a:rPr>
              <a:t>DEFINISJ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Industrialisering: Gå over fra manuelt arbeid til maskinelt arbeid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4" descr="spinningjenny2a"/>
          <p:cNvPicPr/>
          <p:nvPr/>
        </p:nvPicPr>
        <p:blipFill>
          <a:blip r:embed="rId1"/>
          <a:stretch/>
        </p:blipFill>
        <p:spPr>
          <a:xfrm>
            <a:off x="4716360" y="3357720"/>
            <a:ext cx="3600720" cy="29257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6" descr="180px-Marianne_Stokes_St_Elizabeth_of_Hungary_Spinning_for_the_Poor"/>
          <p:cNvPicPr/>
          <p:nvPr/>
        </p:nvPicPr>
        <p:blipFill>
          <a:blip r:embed="rId2"/>
          <a:stretch/>
        </p:blipFill>
        <p:spPr>
          <a:xfrm>
            <a:off x="1332000" y="2997360"/>
            <a:ext cx="2057400" cy="345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000000"/>
                </a:solidFill>
                <a:latin typeface="Calibri"/>
              </a:rPr>
              <a:t>IDEOLOGI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Calibri"/>
              </a:rPr>
              <a:t>Adam Smith (1723 – 1790): Fri konkurranse, Kapitalismens far (1723 – 1790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Calibri"/>
              </a:rPr>
              <a:t>Karl Marx (1818 – 1883), kommunisme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648320" y="1676160"/>
            <a:ext cx="4194000" cy="44226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4" descr="adam_smith2.jpg"/>
          <p:cNvPicPr/>
          <p:nvPr/>
        </p:nvPicPr>
        <p:blipFill>
          <a:blip r:embed="rId2"/>
          <a:stretch/>
        </p:blipFill>
        <p:spPr>
          <a:xfrm>
            <a:off x="4140360" y="1197000"/>
            <a:ext cx="2792160" cy="36385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4" descr="72km1"/>
          <p:cNvPicPr/>
          <p:nvPr/>
        </p:nvPicPr>
        <p:blipFill>
          <a:blip r:embed="rId3"/>
          <a:stretch/>
        </p:blipFill>
        <p:spPr>
          <a:xfrm>
            <a:off x="6573960" y="3500280"/>
            <a:ext cx="2570040" cy="3141720"/>
          </a:xfrm>
          <a:prstGeom prst="rect">
            <a:avLst/>
          </a:prstGeom>
          <a:ln w="9360">
            <a:solidFill>
              <a:srgbClr val="00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2" name="Picture 2" descr="capitalsystem-2"/>
          <p:cNvPicPr/>
          <p:nvPr/>
        </p:nvPicPr>
        <p:blipFill>
          <a:blip r:embed="rId1"/>
          <a:stretch/>
        </p:blipFill>
        <p:spPr>
          <a:xfrm>
            <a:off x="2112840" y="0"/>
            <a:ext cx="5543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Text Box 6"/>
          <p:cNvSpPr/>
          <p:nvPr/>
        </p:nvSpPr>
        <p:spPr>
          <a:xfrm>
            <a:off x="1676520" y="419040"/>
            <a:ext cx="7162560" cy="1252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993300"/>
                </a:solidFill>
                <a:latin typeface="Lombardic Narrow"/>
              </a:rPr>
              <a:t>Stereotype of the Factory Owner</a:t>
            </a:r>
            <a:r>
              <a:rPr b="1" i="1" lang="en-US" sz="3800" spc="-1" strike="noStrike">
                <a:solidFill>
                  <a:srgbClr val="993300"/>
                </a:solidFill>
                <a:latin typeface="Lombardic Narrow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" name="Picture 4" descr="fatcat"/>
          <p:cNvPicPr/>
          <p:nvPr/>
        </p:nvPicPr>
        <p:blipFill>
          <a:blip r:embed="rId1"/>
          <a:stretch/>
        </p:blipFill>
        <p:spPr>
          <a:xfrm>
            <a:off x="0" y="128520"/>
            <a:ext cx="9144000" cy="6602400"/>
          </a:xfrm>
          <a:prstGeom prst="rect">
            <a:avLst/>
          </a:prstGeom>
          <a:ln w="9360">
            <a:solidFill>
              <a:srgbClr val="00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Text Box 5"/>
          <p:cNvSpPr/>
          <p:nvPr/>
        </p:nvSpPr>
        <p:spPr>
          <a:xfrm>
            <a:off x="1676520" y="365040"/>
            <a:ext cx="7162560" cy="1374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993300"/>
                </a:solidFill>
                <a:latin typeface="Lombardic Narrow"/>
                <a:ea typeface="Arial"/>
              </a:rPr>
              <a:t>“</a:t>
            </a:r>
            <a:r>
              <a:rPr b="1" lang="en-US" sz="4200" spc="-1" strike="noStrike">
                <a:solidFill>
                  <a:srgbClr val="993300"/>
                </a:solidFill>
                <a:latin typeface="Lombardic Narrow"/>
                <a:ea typeface="Arial"/>
              </a:rPr>
              <a:t>Upstairs”/“Downstairs” Life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0" name="Picture 3" descr="Capital and Labor"/>
          <p:cNvPicPr/>
          <p:nvPr/>
        </p:nvPicPr>
        <p:blipFill>
          <a:blip r:embed="rId1"/>
          <a:srcRect l="0" t="1365" r="0" b="0"/>
          <a:stretch/>
        </p:blipFill>
        <p:spPr>
          <a:xfrm>
            <a:off x="0" y="47520"/>
            <a:ext cx="9144000" cy="6764400"/>
          </a:xfrm>
          <a:prstGeom prst="rect">
            <a:avLst/>
          </a:prstGeom>
          <a:ln w="9360">
            <a:solidFill>
              <a:srgbClr val="744d2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Rectangle 7"/>
          <p:cNvSpPr/>
          <p:nvPr/>
        </p:nvSpPr>
        <p:spPr>
          <a:xfrm>
            <a:off x="457200" y="-7776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4f81bd"/>
                </a:solidFill>
                <a:latin typeface="Calibri"/>
              </a:rPr>
              <a:t>Europa 181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Rectangle 5"/>
          <p:cNvSpPr/>
          <p:nvPr/>
        </p:nvSpPr>
        <p:spPr>
          <a:xfrm>
            <a:off x="457200" y="15224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82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3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5" name="Picture 1029" descr="Europe1815GF"/>
          <p:cNvPicPr/>
          <p:nvPr/>
        </p:nvPicPr>
        <p:blipFill>
          <a:blip r:embed="rId1"/>
          <a:stretch/>
        </p:blipFill>
        <p:spPr>
          <a:xfrm>
            <a:off x="0" y="668160"/>
            <a:ext cx="9144000" cy="626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43080" y="503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Rectangle 5"/>
          <p:cNvSpPr/>
          <p:nvPr/>
        </p:nvSpPr>
        <p:spPr>
          <a:xfrm>
            <a:off x="34308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0" name="Picture 4" descr="evolut"/>
          <p:cNvPicPr/>
          <p:nvPr/>
        </p:nvPicPr>
        <p:blipFill>
          <a:blip r:embed="rId1"/>
          <a:stretch/>
        </p:blipFill>
        <p:spPr>
          <a:xfrm>
            <a:off x="-114480" y="2049480"/>
            <a:ext cx="9372960" cy="32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000000"/>
                </a:solidFill>
                <a:latin typeface="Calibri"/>
              </a:rPr>
              <a:t>VIRKNING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Effektivisering av produksjon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Endring av arbeidslivet og familielivet, miljøet og forholdet mellom samfunnsklassen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Bedre kommunikasjon, mulighet for kontak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4" descr="impact2"/>
          <p:cNvPicPr/>
          <p:nvPr/>
        </p:nvPicPr>
        <p:blipFill>
          <a:blip r:embed="rId1"/>
          <a:srcRect l="617" t="0" r="0" b="3033"/>
          <a:stretch/>
        </p:blipFill>
        <p:spPr>
          <a:xfrm>
            <a:off x="611280" y="0"/>
            <a:ext cx="7921440" cy="6858000"/>
          </a:xfrm>
          <a:prstGeom prst="rect">
            <a:avLst/>
          </a:prstGeom>
          <a:ln w="9360">
            <a:solidFill>
              <a:srgbClr val="00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1523880" y="380880"/>
            <a:ext cx="7162920" cy="794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993300"/>
                </a:solidFill>
                <a:latin typeface="Lombardic Narrow"/>
              </a:rPr>
              <a:t>Steam Ship</a:t>
            </a:r>
            <a:r>
              <a:rPr b="1" lang="en-US" sz="3900" spc="-1" strike="noStrike">
                <a:solidFill>
                  <a:srgbClr val="993300"/>
                </a:solidFill>
                <a:latin typeface="Lombardic Narrow"/>
              </a:rPr>
              <a:t> 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4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00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000000"/>
                </a:solidFill>
                <a:latin typeface="Arial Unicode MS"/>
              </a:rPr>
              <a:t>TI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Ca. 1750: Den industrielle revolusjonen begynner i Engl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Ca. 1850: Industrien kommer for alvor til Nor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000000"/>
                </a:solidFill>
                <a:latin typeface="Calibri"/>
              </a:rPr>
              <a:t>HVORFOR ENGLAND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Kunnskap om tekstilproduksj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Ingen indre krigføring siden 1600-tall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Fristed for emigranter: nye impuls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Gode veier og kysttrafik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Adelen ønsket å investere i industr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Arbeidskra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Råvar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Marked, indre og yt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800" spc="-1" strike="noStrike">
                <a:solidFill>
                  <a:srgbClr val="000000"/>
                </a:solidFill>
                <a:latin typeface="Arial Unicode MS"/>
              </a:rPr>
              <a:t>OPPSTART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Spinne- og vevemaskine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Dampmaskinen økte vareproduksjon og omsetn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Kullkra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5" descr="Watts dampmaski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00720" y="3973680"/>
            <a:ext cx="3065400" cy="228276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6"/>
          <p:cNvSpPr/>
          <p:nvPr/>
        </p:nvSpPr>
        <p:spPr>
          <a:xfrm>
            <a:off x="428760" y="4076640"/>
            <a:ext cx="415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ffff00"/>
                </a:solidFill>
                <a:latin typeface="Calibri"/>
              </a:rPr>
              <a:t>James Watts dampmaskin, 176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7" descr="Bilde:Steam engine in action.gi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9640" y="692280"/>
            <a:ext cx="8353440" cy="543564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8"/>
          <p:cNvSpPr/>
          <p:nvPr/>
        </p:nvSpPr>
        <p:spPr>
          <a:xfrm>
            <a:off x="611280" y="7650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0T09:07:11Z</dcterms:created>
  <dc:creator>"Håvard Dahle" &lt;havardd@vfk.no&gt;</dc:creator>
  <dc:description/>
  <dc:language>en-US</dc:language>
  <cp:lastModifiedBy>Vilgunn</cp:lastModifiedBy>
  <dcterms:modified xsi:type="dcterms:W3CDTF">2010-04-10T09:34:41Z</dcterms:modified>
  <cp:revision>1</cp:revision>
  <dc:subject/>
  <dc:title>DEN INDUSTRIELLE REVOLUSJON</dc:title>
</cp:coreProperties>
</file>